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FC1-7157-4FCB-A6CB-BB5344AD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D54-156B-4E44-BC12-AD8FDFF4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79C-32AF-45AD-A7AE-5700B74A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D12-4097-4A33-9F98-EF82B2B3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8F5-52ED-4B43-958E-9BB9076D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5D5-B974-4594-9B73-498106D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E92-7486-4082-A8F6-0E1151E0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6DB-9D50-42A6-B38F-38752EE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0AF-7F50-454E-9FF7-6C729A61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7C8-E600-4AAE-9272-3380AF01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DE0-D49A-40B8-A008-0826271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4AE-EBF7-4D97-AFCF-ED63E1C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542-B21F-4D6C-B006-4324403B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2" name="untitl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irl Before a Mirror by Pablo Picasso made in 1932 this painting explains how a woman truly  fell about her self on the 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Henri Matisse is a painting of three women that are abstracted and have a lack of detail using geometric shapes and basic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David Salle has a few shifts of focuses the first Thing that is noticed is the blue faces then the people behind them and then the other scenarios on either the left or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Andy Warhol is a shift of focus because each new square has a slightly different patters with contrasting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icture of a woman by kooning portrayed as masculine and hard l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1" name="Kooning_woman_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nother picture done by Kooning  portraying another woman in a distorted from that is not tradi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4" name="450px-De_Kooning_sculp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a sculptor done by Kooning that shows a woman sitting on a bench which is very distorted and goes against traditional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7" name="jackson-pollock-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can be interrupted many different ways and people can see different things in the pain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0" name="pollockJ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may just look like a bunch of paint lines randomly splattered on a canvas but different people interrupt it different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3" name="Jackson_Pollock_Galaxy_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is very creative in a way that you never see the same thing twice. Each time you look at it there is a good chance you will see something n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5" name="Dora_Maar_Au_Ch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ra Maar au Chat, 1941 by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Pablo Picasso it’s a picture of one of his love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8" name="463px-The_Scre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e scream by Edvard M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It represents anguish despair and melancholy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1" name="440px-Picasso_Portrait_of_Daniel-Henry_Kahnweiler_19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ortrait of Daniel-Henry Kahnweiler, 1910 by Picasso  this picture is what he believe what would have became of us if Kahnweiler had no busines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4" name="CRI_696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ainting of the Eiffel Tower using Cubist fragmentation to describe the sensations of depth, motion, and harmony  achieved through color effects and a o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7" name="CRI_1509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Lyubov Popov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represents how crazy the world is and when somebody need help their often not heard or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 Jean Fautrier represents the people that were held hostage during the holoca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 by Picas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ows an old gaunt man on a monochromatic palette with  flattened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Picasso shows an poor family in Barcelona they were part of the socio-economic undercl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1:03:02Z</dcterms:created>
  <dc:creator>Brandon</dc:creator>
  <dc:description/>
  <dc:language>en-US</dc:language>
  <cp:lastModifiedBy>Brandon</cp:lastModifiedBy>
  <dcterms:modified xsi:type="dcterms:W3CDTF">2009-06-11T20:03:58Z</dcterms:modified>
  <cp:revision>15</cp:revision>
  <dc:subject/>
  <dc:title>PowerPoint Presentation</dc:title>
</cp:coreProperties>
</file>